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6880"/>
            <a:ext cx="458928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13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13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A49-2D02-4BA4-8E33-3BF1E148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2: How do Gardner’s and Sternberg’s theories of multiple intelligences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What is creativity, and what foster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makes up emotional intelli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5: To what extent is intelligence related to brain anatomy and neural processing sp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6: When and why were intelligence tests c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What’s the difference between aptitude and achievement tests, and how can we develop and evalu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8: How stable are intelligence scores over the life sp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9: What are the traits of those at the low and high intelligence extrem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10: What does evidence reveal about hereditary and environmental influences on intelli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11: How and why do gender and racial groups differ in mental ability sc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Are intelligence tests inappropriately bia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gues for and against considering intelligence as one general mental abi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887-57BA-42D7-AF28-E896FA7E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616-F484-4B62-8F08-C9440F9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0FC-3E0C-4F0E-81AE-BD31678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157-1511-47FF-AA85-C54D209A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1B9-0C69-4A67-9467-5F286BA8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289-928D-44EE-81D7-D1D60B6D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ECF-0C52-48C5-97A4-34CFFA45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16E-C312-4E3E-BDD3-E77D82C8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665-D39F-469C-BB12-1C4F39CE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46B-520E-466C-BBA6-6E20892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6DE-2329-4BFE-8810-01CDEFB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895-A22B-448E-8E43-305D1F7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463-8E8A-4564-A7F1-A7B645FC0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5235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F31-29F8-491B-B6D7-31F3CAECB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arman proposed that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eneral intelligence (g)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linked to many clusters that can be analyzed by factor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320" y="3352680"/>
            <a:ext cx="7791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, people who do well on vocabulary examinations do well on paragraph comprehension examinations, a cluster that helps define verbal intelligence. Other factors include a spatial ability factor, or a reasoning ability fa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340-66A3-4E66-A4E5-3920F46CF38A}" type="slidenum">
              <a:t>10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emporary Intelligence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ard Gardner (1983, 1999) supports the idea that intelligence comes in multiple forms. Gardner notes that brain damage may diminish one type of ability but not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95480" y="3809880"/>
            <a:ext cx="5124600" cy="220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80840" y="6019920"/>
            <a:ext cx="57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</a:t>
            </a:r>
            <a:r>
              <a:rPr b="0" lang="en-US" sz="2000" spc="-1" strike="noStrike">
                <a:solidFill>
                  <a:srgbClr val="0000ff"/>
                </a:solidFill>
                <a:latin typeface="Palatino Linotype"/>
              </a:rPr>
              <a:t>savant syndrom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xcel in 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nrelated to general intellig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45D-2201-4917-BF48-167C71B24C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ard Gard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28840"/>
            <a:ext cx="83822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proposes eight types of intelligences and speculates about a ninth one —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.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 is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bility to think about the question of life, death and ex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11560" y="3352680"/>
            <a:ext cx="4489200" cy="34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ABD-0A33-4B7B-BEAA-457506E35C9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obert Sternbe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00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nberg (1985, 1999, 2003) also agrees with Gardner, but suggests three intelligences rather than 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2320" y="3571920"/>
            <a:ext cx="77914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naly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assessed by intelligenc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reative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makes us adapt to novel situations, generating novel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ac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required for everyday tasks (e.g. street smar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4AB-41C1-496C-9C24-6D19B1274A2A}" type="slidenum">
              <a:t>1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600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ativity is the ability to produce ideas that are both novel and valuable. It correlates somewhat with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971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xpertis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well-developed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maginative Thinking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e ability to see things in nove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Venturesome Persona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personality that seeks new experiences rather than following th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ntrinsic Motivation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motivation to be creative from wit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Creative Environ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creative and supportive environment allows creativity to bl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F8F-B33D-4DCF-A311-ED55F5B6A566}" type="slidenum">
              <a:t>1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4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 is the ability to perceive, understand, and use emotions (Salovey and others, 2005). The test of emotional intelligence measures overall emotional intelligence and its four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69C-6D6E-4712-9BBF-9CEDB105F3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7772400" cy="3794400"/>
        </p:xfrm>
        <a:graphic>
          <a:graphicData uri="http://schemas.openxmlformats.org/drawingml/2006/table">
            <a:tbl>
              <a:tblPr/>
              <a:tblGrid>
                <a:gridCol w="3124080"/>
                <a:gridCol w="4648320"/>
              </a:tblGrid>
              <a:tr h="60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ceiv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cognize emotions in faces, music and st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nderstand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dict emotions, how they change and bl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ag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ress emotions in different sit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tilize emotions to adapt or be cre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44D-5317-4C6A-B1DF-19E13CAEB0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6002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and others criticize the idea of emotional intelligence and question whether we stretch this idea of intelligence too far when we apply it to our emo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AB3-4E1F-4EAE-908D-3B485B51336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ssessing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define intelligence testing as a method for assessing an individual’s mental aptitudes and comparing them with others using numerical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69E-A55E-45BB-8F88-E97D3B2857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fred 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fred Binet and his colleague Théodore Simon practiced a more modern form of intelligence testing by developing questions that would predict children’s future progress in the Paris schoo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02120" y="1600200"/>
            <a:ext cx="3846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6B6-C919-4BBB-8B80-22CE332D0DA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275760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253" t="0" r="2082" b="0"/>
          <a:stretch/>
        </p:blipFill>
        <p:spPr>
          <a:xfrm>
            <a:off x="76320" y="76320"/>
            <a:ext cx="3352680" cy="28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382-885D-44E9-8FAE-07D443919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ewis T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4240" y="1752480"/>
            <a:ext cx="3693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143000"/>
            <a:ext cx="4205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US, Lewis Terman adapted Binet’s test for American school children and named the test the Stanford-Binet Test. The following is the formula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 Quotient (IQ)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troduced by William S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730680" cy="100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2D5-C60F-401C-A98C-57C24A09045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avid Wechs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chsler develop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Adult Intelligence Scale (WAIS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later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Intelligence Scale for Children (WISC)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telligence test for school-aged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4750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B5F-31F0-4938-BCC5-7DB9DF6EF3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9528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IS measures overall intelligence and 11 other aspects related to intelligence that are designed to assess clinical and education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11028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53B-CE27-46DE-85F6-2F92C81DA68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6002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a psychological test to be acceptable it must fulfill the following three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7040" y="3200400"/>
            <a:ext cx="337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ADB-96BA-4F34-A6A8-39F4426BD329}" type="slidenum">
              <a:t>23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ing a test involves administering the test to a representative sample of future test takers in order to establish a basis for meaningful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9A1-9A67-4E73-9DBF-CF79BEB9B56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rmal Cur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ed tests establish a normal distribution of scores on a tested population in a bell-shaped pattern call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al cur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19160" y="3200400"/>
            <a:ext cx="61866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78C-A842-4875-B560-4D0EB0601EA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est is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en it yields consistent results. To establish reliability researchers establish different proced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581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Split-half Reliabi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Dividing the test into two equal halves and assessing how consistent the scores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est-Retest Reliability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the same test on two occasions to measure consist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35B-D7E2-4621-B236-9E24025A92E1}" type="slidenum">
              <a:t>2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 of a test does not ensure validity. Validity of a test refers to what the test is supposed to measure or pred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14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ontent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extent a test measures a particular behavior or tr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edictive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function of a test in predicting a particular behavior or tr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427-31BC-4C6F-832E-587E1C711859}" type="slidenum">
              <a:t>27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25720" y="3429000"/>
            <a:ext cx="5064120" cy="3170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1419120"/>
            <a:ext cx="83818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valid intelligence test divides two groups of people into two extremes: the mentally retarded (IQ 70) and individuals with high intelligence (IQ 135). These two groups are significantly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65D-A867-4ABD-95C6-CFC4D10A30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gh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trary to popular belief, people with high  intelligence test scores tend to be healthy, well adjusted, and unusually successful academicall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57560" y="3429000"/>
            <a:ext cx="28004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3DD-8AF3-4165-80A7-8E9F69EF75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6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257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One General Ability or Several Specific Abiliti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368-3ED1-473E-A79F-847BE911BF6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ntal Retar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ly retarded individuals required constant supervision a few decades ago, but with a supportive family environment and special education they can now care for 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4967280" cy="332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3400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EC0-B284-4F71-8304-1AA0C62AD0B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lynn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past 60 years, intelligence scores have risen steadily by an average of 27 points.  This  phenomenon is known as the Flynn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1400" y="3200400"/>
            <a:ext cx="7772400" cy="30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4AC-A19F-49FC-96B2-1B2DC286747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3623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 other topic in psychology is so passionately followed as the one that asks the question, “Is intelligence due to genetics or environment?”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DD5-7CE7-4D90-A042-D27443F8BE0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5790960" cy="3681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0880" y="137160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, family members, and adopted children together support the idea that there is a significant genetic contribution to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213-D8B3-4ED9-907B-D1D2985B967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ed children show a marginal correlation in verbal ability to their adopte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0200" y="2819520"/>
            <a:ext cx="772452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A4C-2F8A-4781-B27C-B3147F2324E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1337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variation in intelligence test scores attributable to genetics. We credit heredity with 50% of the variation in intellig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pertains only to why people differ from one another, not to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633-5C21-4184-BF43-A49B09511A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84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 and adopted children also show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590920"/>
            <a:ext cx="8382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aternal twins raised together tend to show similarity in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dentical twins raised apart show slightly less similarity in their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F83-9C4D-42ED-89A9-1981C097704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arly Intervention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neglect from caregivers leads children to develop a lack of personal control over the environment, and it impoverishes their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9080" y="3429000"/>
            <a:ext cx="3857400" cy="26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42360" y="604188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manian orphans with mi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uman interaction are delayed in their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D28-4C3F-4B43-91D9-20E71E7F52D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ooling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ooling is an experience that pays dividends, which is reflected in intelligence scores. Increased schooling correlates with higher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70280" y="604188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increase readiness for schoolwor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jects like Head Start facilitate lea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33640" y="3860640"/>
            <a:ext cx="6900840" cy="21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876-4BBA-4293-AABC-3A6AFEA5716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66688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y do groups differ in intelligence? How can we make sense of these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965-647B-4A2B-9653-A34D3904AC6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ssessing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igins of Intellige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dern Tests of Mental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A7F-09AA-4E37-8A0B-BDC676B5C8D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thnic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140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acial groups differ in their average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igh-scoring people (and groups) are more likely to attain high levels of education and in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discuss this issue we begin with two disturbing but agreed upon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216-C5C2-4DF0-A8DE-12F47C4EB8E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cial (Group)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840" y="1600200"/>
            <a:ext cx="838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we look at racial differences, white Americans score higher in average intelligence than black Americans (Avery and others, 1994). European New Zealanders score higher than native New Zealanders (Braden, 199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4406760"/>
          <a:ext cx="7315200" cy="11034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ite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lack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006720" y="599436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ispanic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572000" y="5509800"/>
            <a:ext cx="0" cy="48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95A-2AFD-4EEB-A8A0-9868F88466D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1419120"/>
            <a:ext cx="8381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ferences in intelligence among these groups are largely environmental, as if one environment is more fertile in developing these abilities than the oth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960" y="3124080"/>
            <a:ext cx="81280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1EB-395A-4BDE-B9A5-DD46124DE71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asons Why Environment Affects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s are remarkably alike genet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 is a social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sian students outperform North American students on math achievement and aptitud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day’s better prepared populations would outperform populations of the 1930s on intelligence te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ite and black infants tend to score equally well on tests predicting future intel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ethnic groups have experienced periods of remarkable achievement in different 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F36-5FB1-4CA7-888A-7A0024995295}" type="slidenum">
              <a:t>43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3716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e are seven ways in which males and females differ in variou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2438280"/>
          <a:ext cx="6796080" cy="4082760"/>
        </p:xfrm>
        <a:graphic>
          <a:graphicData uri="http://schemas.openxmlformats.org/drawingml/2006/table">
            <a:tbl>
              <a:tblPr/>
              <a:tblGrid>
                <a:gridCol w="6796080"/>
              </a:tblGrid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Girls are better spel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Girls are verbally fluent and have large vocabu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Girls are better at locating 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Girls are more sensitive to touch, taste, and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. Boys outnumber girls in counts of under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. Boys outperform girls at math problem solving, but under perform at math comp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. Women detect emotions more easily than men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532-DF69-406E-A756-C501541563F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titude tests are necessarily biased in the sense that they are sensitive to performance differences caused by cultural dif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6840" y="3886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aptitude tests are not biased in the sense that they accurately predict performance of one group over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604-ABB2-4387-A17C-A0EDFC5A0D4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est-Takers’ Expec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tereotype threa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self-confirming concern that one will be evaluated based on a negative stere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9120" y="35812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phenomenon appears in some instances in intelligence testing among African-Americans and among women of all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3A7-0D56-41FB-B288-8A5617851D3B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4475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and Adoption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71F-F797-4569-8B6D-7593840DC9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we have an inborn general mental capacity (intelligence)? If so, can we quantify this capacity as a meaningful numb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373-7201-4CA3-B21B-896D5423F6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Intellig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in all cultures) is the ability to learn from experience, solve problems, and use our knowledge to adapt to new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72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esearch studies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whatever the intelligence test measures. This tends to be “school smart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8A-8DB6-48C0-9DF5-62E8E76BD46C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telligence: Ability or Abil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e you ever thought that since people’s mental abilities are so diverse, it may not be justifiable to label those abilities with only one word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40C-43BB-4307-8D5D-28343C6408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idea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ral intelligence (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xists comes from the work of Charles Spearman (1863-1945) who helped develop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ctor analysi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pproach in stat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3840" y="342900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03240" y="619452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hleticism, like intelligence, is many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757-633D-482A-9A70-633696447C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2:43Z</dcterms:modified>
  <cp:revision>571</cp:revision>
  <dc:subject/>
  <dc:title>Memory</dc:title>
</cp:coreProperties>
</file>